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8D2-E50A-4C0F-A397-CEE3456E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513-DCCA-4E97-B49D-C990C72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DA4-207B-47E0-A14C-2EEBD7E4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DFD-E079-42B7-8084-F7CA8541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3F9-0F7C-4D60-A048-B7B9DA78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2F5-8EC8-4F8F-A1AB-7B9E29FA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E20-740A-48AA-90DF-CFC8A020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561-0566-4CDF-8A6B-3B4F925E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7FA-2F29-4634-BC0A-70875FB8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F89-C6CD-46CE-9B6C-6A341BC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4E3-25EE-42E4-A5D0-B06749E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A8B-21D7-4880-AFCC-BC41720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194C-EA0B-4AF5-BAE1-2233CEFA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donkey didnt have any foo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e mised his lunch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onkey humed with Dog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Donkey hummed with Dog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What fun they had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donkey didnt have any foo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donkey didn’t have any food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e mised his lunch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He missed his lunches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He at good food on the f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he was’nt at the farm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He at good food on the f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He ate good food on the farm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he was’nt at the farm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But he wasn’t at the farm no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red a dog stori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new other storys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red a dog stori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He read a dog stori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new other storys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He knew other stories to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The donkey blue the hurn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The dog stated to hum a tun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The donkey blue the hurn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donkey blew the horn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The dog stated to hum a tun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The dog started to hum a tune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onkey humed with Dog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0-08T16:00:22Z</dcterms:modified>
  <cp:revision>36</cp:revision>
  <dc:subject/>
  <dc:title>Slide 1</dc:title>
</cp:coreProperties>
</file>